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435C19-ED87-4397-B177-8F8EF4CC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040" y="4416480"/>
            <a:ext cx="5334120" cy="3713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8E6-45DD-4F72-B694-FC4703BF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F8A-7644-4624-8CF7-BCDEA543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125-ED6F-479F-B8AA-257CE048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58B-9E07-467D-8F3B-D53D924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7E3-0EFB-4168-BBDE-4B51EFE6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8D0A-FED6-4934-AFC9-5E743005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2D00-B35E-494C-89B5-200DDDCC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447-D452-4FA1-943D-4509136E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DC3-F420-49BB-A83C-0D36B28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5D4-AC6F-4032-BBF3-A8F9066F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338-6D4A-4864-9361-87565A2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F1F-1B2F-49D2-9E5F-15CFA47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38BD-209E-4533-BB65-C991C266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0AE-526D-424A-BCCA-636DA70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18EF-6827-4529-A290-9EB00BB0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7DBE-1D06-465F-A6E9-307F077B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302-7138-4D93-8360-64AB277A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1AC-EB2F-4C39-BD78-B3AFDE3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9E5-8577-4495-B8F0-FF60EB2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392-8C5A-4EE2-923B-3F35129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75A-E5A0-461D-BE91-5B13CF7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018-97F5-47BF-855B-81EFFA1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91D-B4B4-4977-AA79-8D06DC9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68E-0215-4574-A4B1-947C289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digitalpreservation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52A-942F-41CC-9BA3-917E1625E325}" type="slidenum">
              <a:rPr b="1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50C2-5000-4225-9357-9AD97F22A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819520" y="1066320"/>
            <a:ext cx="5410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3328920"/>
            <a:ext cx="5465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240" tIns="66600" bIns="126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225520"/>
            <a:ext cx="1371600" cy="1355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1447560"/>
            <a:ext cx="6553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raming a National Preservation and Access Strategy for Geospatial Dat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IP Federation Mee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/5/20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lliam G. LeFurgy, wlef@loc.gov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2388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Digital Information Infrastructure and Preservation Program established in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gress saw valuable digital content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brary of Congress directed to lead a national program and work with all stakehol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with federal agencies, universities, commercial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909-2886-4175-9C9D-84E745804E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ree Parts of NDIIP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a community of practice to collaborate on solutions, share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ponsor and develop tools, services, infrastructure to provide long-term access to significant digital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ork with partners to preserve and provide access to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9BE-A48A-4BF8-9D54-88053E2F9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rilling Down into Domains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DIIPP has worked with a variety of content types; new focus on specific area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ospatial data is one are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on projects with UCSB/Stanford National Geospatial Data Archive and North Carolina State U./Central GIS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645-03AF-46A6-85EF-6747B12154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November 2009 Meeting at LC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vited 40 experts from different organizations to discuss developing a national strateg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ainstormed on variety of top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rt of an ongoing pro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8305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www.digitalpreservation.gov/news/events/other_meetings/geosummit09/index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E24-2E28-419B-B861-7B7549F08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eeting Goal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derstand who the stewards 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earn about current roles/responsibilit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y the types of geo data are preservation priorit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y gaps in the geo life cycl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t suggestions for next step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B2E-57E7-4C1D-B7B8-E17D66B2CA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What Happens Nex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ssue meeting re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uild a broad-based information resource on digitalpreservation.gov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stablish follow-on activitie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op on data apprais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group on model licensing guidelin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d more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C96-B691-4CF6-A4C5-5B2DB40360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gitalpreservation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3E0-ABD9-40B2-87E7-6BA3D845E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22:44:37Z</dcterms:created>
  <dc:creator>loc</dc:creator>
  <dc:description/>
  <dc:language>en-US</dc:language>
  <cp:lastModifiedBy>wlef</cp:lastModifiedBy>
  <cp:lastPrinted>2001-11-28T21:10:42Z</cp:lastPrinted>
  <dcterms:modified xsi:type="dcterms:W3CDTF">2010-01-05T17:29:30Z</dcterms:modified>
  <cp:revision>754</cp:revision>
  <dc:subject/>
  <dc:title>ARL</dc:title>
</cp:coreProperties>
</file>